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9D4A-CE8D-4482-8425-A4757D1C4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CECA-5C4C-462E-B694-E671F43E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5E26-4463-42C4-BE61-64F3BB70B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58BD-C004-4DD6-9978-447007603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8883-51F9-48DE-9A8F-776856E5F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F905-D262-4A3F-AAA8-D41B5A8A5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B91A-219B-4186-9C2F-56A56D93A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63A2-131B-45AB-A1BD-88A1EE8D6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850F-32F7-47A6-9624-8CF1A12C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3FBF-BE7B-4AC2-95E8-B7F5EE92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C55A-9B42-468C-8479-94BE949D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F6D8-F515-4D0D-B3F2-43107446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341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6D24B-7231-4FA8-B911-00A3E5A7C5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ask.com/bar?q=general+Robert+E+Lee&amp;page=1&amp;qsrc=0&amp;ab=1u" TargetMode="External"/><Relationship Id="rId2" Type="http://schemas.openxmlformats.org/officeDocument/2006/relationships/hyperlink" Target="http://www.ask.com/bar?q=general+Robert+E+Lee&amp;page=1&amp;qsrc=0&amp;ab=1u" TargetMode="External"/><Relationship Id="rId3" Type="http://schemas.openxmlformats.org/officeDocument/2006/relationships/hyperlink" Target="http://www.ask.com/bar?q=general+Robert+E+Lee&amp;page=1&amp;qsrc=0&amp;ab=1u" TargetMode="External"/><Relationship Id="rId4" Type="http://schemas.openxmlformats.org/officeDocument/2006/relationships/hyperlink" Target="http://www.ask.com/bar?q=general+Robert+E+Lee&amp;page=1&amp;qsrc=0&amp;ab=1u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olbroad.com/wp-content/uploads/2009/01/robert-e-lee-hosrseback.jpg&amp;imgrefurl=http://olbroad.com/category/history/&amp;usg=__vvx0M28zyA6V6XPAA_pfy7RgDMQ=&amp;h=349&amp;w=396&amp;sz=46&amp;hl=en&amp;start=7&amp;tbnid=h4OCT8hbHqDSNM:&amp;tbnh=109&amp;tbnw=124&amp;prev=/images%3Fq%3Drobert%2Be%2Blee%26gbv%3D2%26hl%3Den%26safe%3Dactive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341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971800" y="1752480"/>
            <a:ext cx="3108240" cy="3886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ern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Amber &amp; Ciar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bert E. L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341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Opinion on Sla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ought that blacks were better off here than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ainful discipline is necessary for their further instruction as a race and will hopefully prepare them for better th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648320" y="2362320"/>
            <a:ext cx="4267080" cy="27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341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The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he war he was employed as an engineer worker in Washington and Balti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became a president at a Washington College in Lexington, 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733920" y="4600440"/>
            <a:ext cx="204768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341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Robert E. Lee was an important general that led the south thru good and bad times. Robert was a great leader and without him the south would  have surely lost the war (anyway). With his help, the south had a ch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341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ask.com/bar?q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=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general+Robert+E+Lee&amp;page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=1&amp;qsrc=0&amp;ab=1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sonofthesouth.net/leefoundation/About%20the%General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ibrary.thinkquest.org/3055/netscape/people/le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ask.com/bar?q=what+did+robert+e+lee+do+after+the+civil+war%3F&amp;page=1&amp;qsrc=0&amp;ab=3&amp;u=http%3A%2F%2Fwww.civilwarhome.com%Fleebio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341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What you will lea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ill learn about the southern general, Robert E. Lee and all his accomplishments, as well as his family and other important things in and about his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733920" y="4038480"/>
            <a:ext cx="17510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341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rn in January 19, 1807 at “Stratford” in Westmoreland County, 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i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w up where Washington was still a living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d many ties to Revolutionary War her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475400" y="4419720"/>
            <a:ext cx="16686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341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Info. Cont’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29- Robert graduated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his class w/o single demerit against his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30, 1831 he married Mary Ann Randolph Cust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 children, all 3 sons served in Confederate ar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48520" y="4343400"/>
            <a:ext cx="2666880" cy="23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341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suffered from heart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may have had something to do with the massive stroke he had on September 28, 18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341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leader in Progres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36- Becam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ieuten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38- Became captain; took part in the Mexican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n distinction for bravery and con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ived the brevets of major for Cerro Gordo, lieut.-colonel for Contreras-Churubusco and colonel for Chapultep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341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52- Appointed superintendent of West Point; during his 3 years there he carried out many important changes in the academ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55- appointed as lieut.-colonel to the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val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341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 Line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59- suppressed the raid by John Brown on Harpers Fer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61- Sent to set up Atlantic Def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62- Appointed advisor to Jeff Dav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1862- Commander of the army of North 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. 1862- Defeated the Union at Antiet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341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 Line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. 1862- Defeated the Union at Fredericksbu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1863- Won at Chancellorsvi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y 1863- Defeated at Gettysbu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ril 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865- Surrendered at Appomattox Court 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t. 12, 1870- Di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died of heart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410080" y="4495680"/>
            <a:ext cx="3429000" cy="2089440"/>
          </a:xfrm>
          <a:prstGeom prst="rect">
            <a:avLst/>
          </a:prstGeom>
          <a:ln w="38160">
            <a:solidFill>
              <a:srgbClr val="0000ff"/>
            </a:solidFill>
            <a:prstDash val="sysDot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2:05:03Z</dcterms:created>
  <dc:creator>amberlgrumbine</dc:creator>
  <dc:description/>
  <dc:language>en-US</dc:language>
  <cp:lastModifiedBy>amberlgrumbine</cp:lastModifiedBy>
  <dcterms:modified xsi:type="dcterms:W3CDTF">2009-03-20T12:22:07Z</dcterms:modified>
  <cp:revision>20</cp:revision>
  <dc:subject/>
  <dc:title>Robert E. Lee</dc:title>
</cp:coreProperties>
</file>